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807-FDD0-461C-ADC6-FE922A88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3E7-4F04-4B00-B016-96421ED1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FCA-4134-4458-84A6-DA516637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14E-3C6C-4C76-A331-DA3A4255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B6E-8D9F-4279-86A5-9413B141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3D6-A595-4C6E-A81E-F509098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DDB-5768-4C79-8EDD-8C2E5D3D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E94-81A1-4B9F-811F-4712DA82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F75-4FFC-4980-A30F-D63F41A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6A6-C85E-4A44-B0C5-E897D57E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A4F-7685-4A37-90D4-ADF422C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5B9-0531-4BB9-9A38-A5CF515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B77D-4029-45A6-A47A-541490D38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ble2" descr=""/>
          <p:cNvPicPr/>
          <p:nvPr/>
        </p:nvPicPr>
        <p:blipFill>
          <a:blip r:embed="rId1"/>
          <a:stretch/>
        </p:blipFill>
        <p:spPr>
          <a:xfrm>
            <a:off x="914400" y="17640"/>
            <a:ext cx="7315200" cy="682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7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كلمتك مصباح لخط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نور لسبيل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من كان من الل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سمع كلام ال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ذا ثبتم بكلامي صرتم حقا تلاميذ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 السماء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تزولان وكلامي لا يزول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1:35Z</dcterms:modified>
  <cp:revision>4</cp:revision>
  <dc:subject/>
  <dc:title>PowerPoint Presentation</dc:title>
</cp:coreProperties>
</file>